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CC8-C63D-48DC-A027-254E2CF9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7B9-ED27-4F21-B17E-DF92428A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AAD-587B-4DB3-AE60-4C941AEB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420-1C11-43FD-8ADC-175225C5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4C25-ED1D-4F50-8C4A-F8F17ACD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C7D7-5AA9-4849-89BB-A4044552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3E6C-EA48-45A4-824A-2F016908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89ED-B585-4537-ACF0-4D443AB1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8A71-259E-4E71-8F25-E042E865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FA70-1FC0-4A32-9B84-345A757F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0EE6-4E48-4F90-B314-FBE26C39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1D0-DD41-43F2-A3DB-DDE31E3A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4049-949C-41E3-A88C-26D0689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4FCD-BC65-44BE-B383-6073946D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A22C-5D40-48C3-AC66-F661921F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BF76-7677-4200-955F-10EE33FE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C668-1EB5-40F4-BF1D-3DDEDA41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766B-6715-40C2-AB7B-B47699C4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5089-B7CC-405F-8B9B-9E7E5886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9553-46F5-47A6-B523-DDA8B97E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585A-9236-4595-A115-F28C91AC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9303E-1AD3-4F6E-8AC2-42E93E99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3F4-AC85-4D10-99E1-AFACC6C1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900F-6951-417D-83DA-447758DC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46768-6791-4ED1-A9D0-A0191245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B88A-86EC-46A0-805D-186FBE85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EA4A-95A3-4398-8944-5B049AE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6672-F189-4034-9668-107B53D2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27A0E-F3CF-4A1F-AC5D-F9EC8F21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12F7-BC1A-4D8C-92C9-E74C3C43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170-E975-4CF4-BD2E-12052E68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82A-7799-438E-979C-713182BA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B67-B00C-42A1-94EA-6905CD7C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EC1-74B7-4202-AB1F-FE1DF2F7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F9F-DE0E-48C2-B09A-658B3A9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3E6-BFE9-4982-898B-9301B77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855F-8BCF-46FC-A3D2-D20B6263061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5624-2D95-41DC-9E65-D2FB23B576A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4192-A921-442F-8BC4-E2D17BE8C26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148360" y="907920"/>
            <a:ext cx="3995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غنوا ي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بناء الل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08240" y="0"/>
            <a:ext cx="61437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نّوا يا أبناءَ الل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الـمسيح ق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لب الموت ملك الكو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ال سلطان الظل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40000" y="0"/>
            <a:ext cx="657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 الله رب الحيا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يّ إلى دهر الدهو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نور الذي لا يغ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عالوا وخذوا النور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08240" y="0"/>
            <a:ext cx="61437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نّوا يا أبناءَ الل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الـمسيح ق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لب الموت ملك الكو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ال سلطان الظل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40000" y="0"/>
            <a:ext cx="657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 الله رب الحيا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يّ إلى دهر الدهو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نور الذي لا يغ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عالوا وخذوا النور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16360" y="0"/>
            <a:ext cx="599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ام الربّ وطِئ الـموت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فرحي أورشل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كلُّ شيءٍ صار جديدا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تبدّل القد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0"/>
            <a:ext cx="5427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لهُ حيٌّ بين شع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عل مسكنَه معه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أحزانَ لا أوجاعَ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دموعَ بعد اليو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عدُ اللهِ قد تحقّق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مّ قولُ الأنبي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نّا من قبل أمواتاً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صرنا الآنَ أحي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منا معه سنملك مع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س لـمُلكه انقض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ه سنحيا إلى الأبد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ن يطالنا الفناء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شعبُ الله ارفع رأس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إن إلهَك عظ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أين شوكتُك يا مو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غلبتُك يا جح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0"/>
            <a:ext cx="6220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وتُ الربِّ صار حياة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ضحى نصرُنا أكي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يّا نفرح ونهل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ل الـملكوتِ الجديد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9:50Z</dcterms:created>
  <dc:creator>Charbel Azar</dc:creator>
  <dc:description/>
  <dc:language>en-US</dc:language>
  <cp:lastModifiedBy>-</cp:lastModifiedBy>
  <dcterms:modified xsi:type="dcterms:W3CDTF">2003-04-20T07:36:29Z</dcterms:modified>
  <cp:revision>7</cp:revision>
  <dc:subject/>
  <dc:title>PowerPoint Presentation</dc:title>
</cp:coreProperties>
</file>